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088-1264-4C47-9812-20CABD8B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FC6-75F9-4A1D-87A6-E6232EE7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B17-A077-48CC-9584-5F4EE47F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BB9-9CA4-4B1B-8FB8-5918AFFD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20BA-8C41-4253-8A87-1B94EF5D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6E6B-DCD6-4C83-89D1-AD28F8B4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CC23-BEC0-4F40-BA69-705B3103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F421-BDFB-455E-97CA-687B789D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8518-D9C5-4571-B017-E13C27AA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AB69-1B8C-4761-B98D-5D1DA57E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95ED-4A78-457C-B640-F4EABC38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777-43F2-4A11-9AFF-A9E15E27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5194-92A5-4ED9-BBED-D7C4FB88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545B-7247-4594-9C06-5AFCAAB2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82CA-F687-4DE9-A9E7-1670BA4E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4F34-936D-4937-BF22-87C08D07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26D5-1EF4-4FBD-A8CB-9FDA7F44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FE8-02D4-4D1B-91D2-6A81A6F4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096-2173-4725-9AFD-616FE27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543-CC57-4B0C-B7E4-CA6C8197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D7D-7D17-4A0F-BA65-C8DC0632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3F3-B11B-4B62-AAFA-C120986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AA2-5746-48B4-8D60-480F662C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2DD-74F3-4445-BD22-3DF70460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0DC-8486-4816-A3EC-AAC870CCA4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384C-BF91-488B-ABF2-9A418D1D537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Biological Magnificatio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iological Magnifi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fers to the process where certain substances such as pesticides or heavy metal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ve up the food chain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k their way into rivers or lakes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are eaten by aquatic organisms such as fish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ich in turn are eaten by large birds, animals or human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ubstances become concentrated in tissues or internal organs as they move up the chai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8:16:59Z</dcterms:created>
  <dc:creator>Clear Creek ISD</dc:creator>
  <dc:description/>
  <dc:language>en-US</dc:language>
  <cp:lastModifiedBy>Clear Creek ISD</cp:lastModifiedBy>
  <dcterms:modified xsi:type="dcterms:W3CDTF">2008-10-16T12:47:24Z</dcterms:modified>
  <cp:revision>3</cp:revision>
  <dc:subject/>
  <dc:title>Biological Magnification</dc:title>
</cp:coreProperties>
</file>